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D15-711A-4FB8-A465-CD815C65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2A2-28B7-4F4A-B4DC-4D28253E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B5A-9E68-4C3F-83F6-647423FF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FC4-D725-411E-BEFC-BE330676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DFB-DA90-4818-82CC-529B72DE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FD2C-FDCE-467F-899D-2B1EFEDE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453-4CB4-40DE-B7DB-1CFA35ABB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7FF6-0201-4A14-A153-166894DD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1607-AA98-45D6-90BA-0E9E5F73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D2EA87A-401C-4423-851B-BC00D52F66C1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D8ACE5A-B2FC-457F-8C15-53D818647EF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A058DF8-3760-4062-A0A7-F6B1F2DD817C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89000" y="5748480"/>
            <a:ext cx="87660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Inserting and Formatting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Layou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lides are available in different 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layout that works best for the content of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BBFCB78-F733-4731-BFDA-92846EE8504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Layout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5C8B97F-2A67-448A-90BE-E272641E23C0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90720" y="1606680"/>
            <a:ext cx="769608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rrange All Featu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nge Al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s feature allows you to work on two fil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ill appear on the same screen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Slide Pane of the presentation to make it active (enabling you to work on 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F3D78C0B-6AEC-48E2-8CDC-7881F7F770B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rrange All Featur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0D599D8-75CD-4477-8C50-969DA80A5E2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58880" y="1646280"/>
            <a:ext cx="81532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Content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52320" y="1495440"/>
            <a:ext cx="82598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itle that relates to one of your main topics in your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main points &amp; subpoints related to the topic on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important words in a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ize the first word of each line in a bulleted list &amp; all proper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hort phrases fo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lace punctuation at the end of the lines – incomplete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546B374-383D-49E6-AC92-4B7C74B0F59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ing Content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A4FBE90-70D7-42C8-8A32-CC3A9C9D79F5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90720" y="1755720"/>
            <a:ext cx="7696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Tabl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Insert Table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rows and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t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8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4D69761-A0C8-40A1-AF0B-D964605FFF5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232240" y="3863880"/>
            <a:ext cx="2860920" cy="1716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6073920" y="2016000"/>
            <a:ext cx="2349360" cy="1568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3"/>
          <a:stretch/>
        </p:blipFill>
        <p:spPr>
          <a:xfrm>
            <a:off x="1238400" y="3362400"/>
            <a:ext cx="37573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3-29T13:48:10Z</dcterms:modified>
  <cp:revision>18</cp:revision>
  <dc:subject/>
  <dc:title>Slide 1</dc:title>
</cp:coreProperties>
</file>